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577-EA55-44D1-A77A-BBEEABC1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E22-0D32-42A0-A960-7CEBDCAA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649-1CE8-4B7C-948E-C7546924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B72-DC1D-4C4B-A9FD-1256DCFD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51A-A2A1-4D6C-9D35-FE2D1E5C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F5D-D24A-4BBA-90F7-F23A2A8D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1CE-4AAC-48B5-BACA-D84C1F7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EDA-A6A5-44C2-9474-2AE25F9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803-B897-4C2F-BDD2-963AB5AB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E83-67C1-45B7-A13A-101B4F0F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9A2-FAE1-4E9D-9D2C-03094C13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EA6-8455-4E32-AAD5-D3006BF7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BB5D-DD1C-4EA2-8382-78A6FB97C405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entury"/>
              </a:rPr>
              <a:t>Информационно – исследовательский проек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entury"/>
              </a:rPr>
              <a:t> 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entury"/>
              </a:rPr>
              <a:t>«Изготовление мыл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entury"/>
              </a:rPr>
              <a:t>в домашних условиях»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 Выполнял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аритонова Юлия. учащаяся 3-а класс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У Богатовской СОШ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уководител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отова Татьяна Владимировна, МОУ Богатовская СОШ, учитель начальных класс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Добавить   масло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дсолнечно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1-2 ст. ложки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ливково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Миндально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блепихово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53880" y="1397160"/>
            <a:ext cx="38610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Снять с огня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" name="Содержимое 5" descr="http://open.home-media.ru/user_images/0000/2851/IMG_0225.jpg"/>
          <p:cNvPicPr/>
          <p:nvPr/>
        </p:nvPicPr>
        <p:blipFill>
          <a:blip r:embed="rId1"/>
          <a:stretch/>
        </p:blipFill>
        <p:spPr>
          <a:xfrm>
            <a:off x="1214280" y="1857240"/>
            <a:ext cx="6429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Добавить: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57520" y="1428840"/>
            <a:ext cx="37861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Молотый коф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всяные хлопья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ушёные трав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ухие цвет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Красители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316080" y="1684440"/>
            <a:ext cx="4684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Разлить в формочки, остудить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57120" y="3492360"/>
            <a:ext cx="4572000" cy="2878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072040" y="1857240"/>
            <a:ext cx="35719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"/>
              </a:rPr>
              <a:t>Исследовательская проблема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i="1" lang="ru-RU" sz="6000" spc="-1" strike="noStrike">
                <a:solidFill>
                  <a:srgbClr val="000000"/>
                </a:solidFill>
                <a:latin typeface="Century Schoolbook"/>
              </a:rPr>
              <a:t>Как сделать  мыло в домашних условиях своими руками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Изготовить мыло    ручной работы в подарок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Задачи исследования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Познакомиться с мнениями историков, химиков, медиков, литераторов о мыл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Экспериментальным путём подобрать необходимые ингредиент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Освоить технологию приготовления мыл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Диаграмма 9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7786440" cy="371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"/>
          <p:cNvPicPr/>
          <p:nvPr/>
        </p:nvPicPr>
        <p:blipFill>
          <a:blip r:embed="rId2"/>
          <a:stretch/>
        </p:blipFill>
        <p:spPr>
          <a:xfrm>
            <a:off x="4071960" y="3857760"/>
            <a:ext cx="1000080" cy="149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/>
          <p:cNvPicPr/>
          <p:nvPr/>
        </p:nvPicPr>
        <p:blipFill>
          <a:blip r:embed="rId3"/>
          <a:stretch/>
        </p:blipFill>
        <p:spPr>
          <a:xfrm rot="20027400">
            <a:off x="420480" y="4177800"/>
            <a:ext cx="1346040" cy="92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4"/>
          <a:stretch/>
        </p:blipFill>
        <p:spPr>
          <a:xfrm rot="20073000">
            <a:off x="2195280" y="4101840"/>
            <a:ext cx="1334880" cy="88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"/>
          <p:cNvPicPr/>
          <p:nvPr/>
        </p:nvPicPr>
        <p:blipFill>
          <a:blip r:embed="rId5"/>
          <a:stretch/>
        </p:blipFill>
        <p:spPr>
          <a:xfrm>
            <a:off x="5429160" y="4143240"/>
            <a:ext cx="13305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Натереть мыльную  основу на тёрк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" name="Содержимое 8" descr="http://open.home-media.ru/user_images/0000/2841/IMG_0218.jpg"/>
          <p:cNvPicPr/>
          <p:nvPr/>
        </p:nvPicPr>
        <p:blipFill>
          <a:blip r:embed="rId1"/>
          <a:stretch/>
        </p:blipFill>
        <p:spPr>
          <a:xfrm>
            <a:off x="1857240" y="1785960"/>
            <a:ext cx="5857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Залить стружку кипятком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" name="Содержимое 3" descr="http://open.home-media.ru/user_images/0000/2849/IMG_0224.jpg"/>
          <p:cNvPicPr/>
          <p:nvPr/>
        </p:nvPicPr>
        <p:blipFill>
          <a:blip r:embed="rId1"/>
          <a:stretch/>
        </p:blipFill>
        <p:spPr>
          <a:xfrm>
            <a:off x="1285920" y="1857240"/>
            <a:ext cx="6429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Ковшик – контейнер поместить на водяную баню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Содержимое 3" descr="http://open.home-media.ru/user_images/0000/2845/IMG_0222.jpg"/>
          <p:cNvPicPr/>
          <p:nvPr/>
        </p:nvPicPr>
        <p:blipFill>
          <a:blip r:embed="rId1"/>
          <a:stretch/>
        </p:blipFill>
        <p:spPr>
          <a:xfrm>
            <a:off x="1714680" y="1928880"/>
            <a:ext cx="5857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entury Schoolbook"/>
              </a:rPr>
              <a:t>Дождаться полного растворения основы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0" name="Содержимое 3" descr="http://open.home-media.ru/user_images/0000/2853/IMG_0226.jpg"/>
          <p:cNvPicPr/>
          <p:nvPr/>
        </p:nvPicPr>
        <p:blipFill>
          <a:blip r:embed="rId1"/>
          <a:stretch/>
        </p:blipFill>
        <p:spPr>
          <a:xfrm>
            <a:off x="1714680" y="2286000"/>
            <a:ext cx="5643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09:17:28Z</dcterms:created>
  <dc:creator>Admin</dc:creator>
  <dc:description/>
  <dc:language>en-US</dc:language>
  <cp:lastModifiedBy>Admin</cp:lastModifiedBy>
  <dcterms:modified xsi:type="dcterms:W3CDTF">2009-11-16T14:18:51Z</dcterms:modified>
  <cp:revision>89</cp:revision>
  <dc:subject/>
  <dc:title>Волшебный мир кристаллов</dc:title>
</cp:coreProperties>
</file>